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8959-B826-4D36-B841-821639C05C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tarter quiz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arter quiz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rection is the opposite to clockwi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rection is the opposite to clockwi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clockw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clockw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issing numb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0 divided by ?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missing nu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 divided by ?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hape is a pie char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ape is a pie cha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lar, 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r, 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centimetres in 1.8 m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centimetres in 1.8 m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issing sig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?  9  = 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missing sig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?  9  =  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issing numb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  X  ?  =  1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missing nu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 X  ?  = 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line of symmetry on your bod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line of symmetry on your bo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wn the middle from top to bottom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 the middle from top to botto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/10  -  Superst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/10  -  Very Good inde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/10  -  Good on ya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/10  -  O.K (ish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/10  -  Go home and learn you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/10  -  Supersta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/10  -  Very Good inde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/10  -  Good on y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/10  -  O.K (ish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/10  -  Go home and learn y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2D shape has 5 sid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2D shape has 5 sid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TA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TA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numbers between 0 and 14 are impossible to get with a throw of 2 dic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numbers between 0 and 14 are impossible to get with a throw of 2 dic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 and 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and 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years are there in a centu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years are there in a centu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4842-61FE-4A36-88F0-2B25400DF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B8DF-3429-4829-9C3D-30FD85B6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968F-4E83-4AD2-8165-4789ACCCF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0E64-77AB-4F62-96B1-999B64949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563A-913C-4557-9AB6-D1D745C6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DC69-A45B-4079-8D2E-92A9A13E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170F-30E5-42ED-A29F-36D6236C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1FFC-89AB-4F7A-B356-0D1A5940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E07B-B5ED-4E3E-805A-403F085C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25F0-D186-41D1-83F8-FAC18B43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E6F6-5497-40F8-8ED7-8DA1346D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DB31-1482-4597-A995-B39D52A7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0EF9-76D5-4B81-B53A-C64FC2F7A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icsearch.com/info.cgi?q=question%20marks&amp;id=fxDpCZ5s6hjg-Q85jYAcRDT26V40JV0roz4pkS1ahqE&amp;opt=%26cols%3D4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826920" y="1557360"/>
            <a:ext cx="4638960" cy="31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0 starter quiz 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questions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9" name="Picture 6" descr="Click to view image detail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628640"/>
            <a:ext cx="2735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at direction is the opposite to clockwis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Anticlockwi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at is the missing numbe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37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70 divided by ? = 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at shape is a pie char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Circular, rou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4920" y="2133720"/>
            <a:ext cx="8218440" cy="20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How many centimetres in 1.8 m?</a:t>
            </a: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at is the missing sign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4220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3  ?  9  =  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at is the missing numbe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320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8  X  ?  =  1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ere is the line of symmetry on your bod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Down the middle from top to bottom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0/10  -  Supersta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9/10  -  Very Good indee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8/10  -  Good on ya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7/10  -  O.K (ish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6/10  -  Go home and learn your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ork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ich 2D shape has 5 side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PENTAG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85264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ich numbers between 0 and 14 are impossible to get with a throw of 2 dice?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  and  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How many years are there in a centur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1:53:06Z</dcterms:created>
  <dc:creator>Technical Services</dc:creator>
  <dc:description/>
  <dc:language>en-US</dc:language>
  <cp:lastModifiedBy>LEGION</cp:lastModifiedBy>
  <dcterms:modified xsi:type="dcterms:W3CDTF">2015-09-08T10:36:37Z</dcterms:modified>
  <cp:revision>26</cp:revision>
  <dc:subject/>
  <dc:title>Math starter quiz What is the missing number?</dc:title>
</cp:coreProperties>
</file>